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1641-1794-4E3F-B2D5-4AE4EF37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F9D-63CE-456E-9846-3F2B8902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A02-377C-4907-B62A-B5735F54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DFB-6938-40FB-A8DD-38404951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B90C-9F17-40DA-96CD-89C8921B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93D-0271-401E-848F-4FB9A1C7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D8A1-264F-497E-BF85-C464BC02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765-C7DA-4089-968F-3DF5B600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190-019B-428A-8182-7CD50567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00C-B8EE-4897-B5A0-46A299EB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A78-5A94-4505-8FE2-A1C86BCD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BC4C-45F8-4869-A796-696ED179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66120-DE72-4B2B-8EBC-B09C57506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43400" y="7086600"/>
            <a:ext cx="55166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f.uba.ar/users/diego/LaboF1ByG1c201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79400" y="622440"/>
            <a:ext cx="3871800" cy="2904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32480" y="4064040"/>
            <a:ext cx="3871800" cy="290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78480" y="604800"/>
            <a:ext cx="3871800" cy="2905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43800" y="3657600"/>
            <a:ext cx="1440" cy="457200"/>
          </a:xfrm>
          <a:prstGeom prst="line">
            <a:avLst/>
          </a:prstGeom>
          <a:ln w="457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5:46:14Z</dcterms:created>
  <dc:creator/>
  <dc:description/>
  <dc:language>en-US</dc:language>
  <cp:lastModifiedBy/>
  <cp:revision>1</cp:revision>
  <dc:subject/>
  <dc:title/>
</cp:coreProperties>
</file>